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659-FD5F-4979-ADFD-815AEC4B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6D0-FD73-4B28-93BA-DF03F368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F6C-8E6A-4BFD-9197-13DED6C6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E06-3BF6-48ED-B413-D6F55F3F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A92-1C43-4447-9D9D-3794C6D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EC-3CCB-45F9-8C96-C385C46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950-0E12-43DF-852F-9A49DB9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272-DE69-46D3-BCD7-D85E1109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E5F-3B41-4D54-8894-F35F8A1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A60-5861-41BE-A764-F0B190F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271-C26E-4BC9-94AF-5093949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623-28A1-417D-9ABA-1F71F73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95C5-6D47-40CA-9B89-E44B2BF51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Baskerville Old Face"/>
              </a:rPr>
              <a:t>The Spaniards and the Pre-Columbian Civi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80060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(Aztecs, Mayas, In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by: Aud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ernard MT Condensed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y were polytheistic because they believed in many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ir leader was Montez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Lived in Central Mexico (Valley of Mexico). They were brought down by small pox which the Spaniards br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Used people from other tribes as slaves an human sacri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ir capital city was Tenochtitla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638440" cy="211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9960" y="3581280"/>
            <a:ext cx="3624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nv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5880" y="5029200"/>
            <a:ext cx="2438640" cy="151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30480" y="4724280"/>
            <a:ext cx="17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angSong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Lived in Mexican coast (Yucatan Peninsula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They didn’t have much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They were polytheistic (believed in many god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 was harder for conquistadors to overthrow because there were many major c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2790720" cy="21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62485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v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2857680" cy="146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1800" y="6172200"/>
            <a:ext cx="241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o.missouristat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agneto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3152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Lived in Peru, South America in the Andes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ir capital city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y were polytheistic (believed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y practiced animal sacrifice, on special occasions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ir leader was Atahual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895480" cy="258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58128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uncp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18064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320" y="4495680"/>
            <a:ext cx="190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ss.fullerto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Brush Script MT"/>
              </a:rPr>
              <a:t>Cort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He was a Spanish explorer and conquista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Traveled with many men and horses to conquer the Aztec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The Aztecs thought Cortez was Quetzalcoatl, a god they believed 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Cortez tricked the Aztecs and took Montezuma hostage and was kil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33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taneo BT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He was a Spanish explorer and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Traveled with 180 men and 27 horses to conquer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Incas were fighting a civil war when Pizarro secretly captured their emperor, Atahualpa and was held for ran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Pizarro had wanted a room full of gold and he would return Atahual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He tricked them and eventually killed Atahualpa instead of returning hi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016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The Spanish explorers and conquistadors changed Central and South America forever by forcing them to speak Spanish and not their native language. They also forced them to change their cultur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049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14:54Z</dcterms:created>
  <dc:creator>jklib</dc:creator>
  <dc:description/>
  <dc:language>en-US</dc:language>
  <cp:lastModifiedBy>jklib</cp:lastModifiedBy>
  <dcterms:modified xsi:type="dcterms:W3CDTF">2011-11-29T14:11:02Z</dcterms:modified>
  <cp:revision>4</cp:revision>
  <dc:subject/>
  <dc:title>The Spaniards and the Pre-Columbian Civilization </dc:title>
</cp:coreProperties>
</file>